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8C92-9ECC-44C3-A39B-1A399955D21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FD01-BD95-4AC1-9DA5-8507BBADD1F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2EF8-7E28-4AC1-AD5F-F61194707BE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598A-4552-415A-A43A-6483371D0BC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69B6-FE68-4C68-B9AD-26F1E4BF390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3678-9F7F-416F-A8AA-C2DE38C31DD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5D3C-E261-4C43-BA2D-A0214AA53C0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4F42-1A03-4DFF-8A87-6563327E4F4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0A1D-A202-4DE0-8189-222D888A010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84F6-4DC6-4F28-99FB-BE0B408DA67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9492-1143-44C2-9D01-D03F8049A44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73BE-8734-469E-812D-3C71BC6956D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04FB-10A2-4009-B9F7-D24A48B17C1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9B11-E421-4065-A759-591533AF9E0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CB7E-41BA-4D68-8A37-AFEBE192BAA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37F74A-435C-4AB0-9C7A-CECD06920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B40868-5D62-4596-9F43-44E322D5C6F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556617-1B08-46B7-8C27-7B32D42BCBC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BE7C6D-A12F-41C5-951D-68DC4F4E7C7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C70583-18A4-4E4B-9C24-2179D38726F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CAE7AE-CCDB-4A33-883C-E035DFE4A2F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4CCC04-657F-45D5-B738-D84280EFF58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3B5EF8-5317-45B3-AD20-12397B35DA0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3187E8-E78F-4234-8E7F-3ECAD204D8B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2D2A90-AB06-400C-BB1D-BA64A79B6A0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EDFCD2-D7C0-450B-ACE4-C5DC3958F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D4843E-2EEA-481C-AD8A-EC2D840A31D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299B4-DA3E-470B-8C89-9846CEF6050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D90DB-211E-4DB2-8FEE-129DF309898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3872D-F090-43D4-9787-34A0ED5E453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A143A-D742-42DD-B499-5EE98F5E9A6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3310F1-0A13-4473-8299-4F76B8E75BD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86CAF0-A1B0-41FD-8133-846EB6FE160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E8E81A-2E64-4C27-B32C-42050B1E29F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4DA60-A57D-45F7-8484-1EA93305DF9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36AF5-1432-4D6C-BA6E-D3E33954FC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B20D5-BED3-4B6E-A57D-28DFF94C92A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16165-4B40-4578-AC23-5C6E7C7E888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A790C-E41B-42C8-9D9A-8A7EEA5A344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8F65BA-9ED0-436C-AFA5-89F67C4F4B9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30190-4224-4937-BAFE-96E8B830B6F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E31EA-128F-4DAA-BC36-DEDF8631356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35AF0-03E2-4627-96B2-EE420C0363E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9932F-1AE0-4CF3-ADFF-EA77566C31C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FE226-8EAF-42CB-95F2-46AAA957F79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E33D7-62DF-4968-8F8E-69061BBEF3E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A4B6A-529F-4AE0-8821-37C2683531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F50C-7134-4ED5-9097-417198E4534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811EA-F967-464F-8D2E-8C6CE77F65D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9CBAD-BD98-4974-B753-2D68CC78905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22212-2284-4285-8788-277DE5D9CFF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D0673-DE3A-4751-81C2-9F127FA126C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2A50B-117F-404B-9476-80650D01F2B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D32CA6-9EC1-4FAA-B243-AE5DABCAE54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0031C5-9D34-4A22-AB5E-97597B5BF66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CDBD2C-9A45-4C99-AF0D-827C90D4BC2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5CE86F-09B8-4B00-B6EC-E084D5FEE41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0F4674-9614-4D2B-A484-EDF2C0B309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8A74E-AFAC-4F97-BEB5-372E92A4EFD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BE066F-87A8-4ECF-8F45-9883F012CB5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1A1570-3985-45BE-970B-480B33C0AD9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37FC79-AEAE-48E0-A452-CA6117D4206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2D6209-77CF-464A-8F74-C4485EBA6F7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E14BBA-7F3E-4FE4-A923-23026993246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01AC5F-9678-4F92-ABB5-7679AB2ECB0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7100E9-D849-46A4-9E8F-EA09FDFA5C5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C3AAEB-317C-4826-946C-3C6C4266BAF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6682BE-DECD-4AED-8DE6-4F4805B576E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7E9C9F-81FF-46D1-B719-A74FD234FA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92AFF-E35B-4738-9A52-1EBCB4B253C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412440-B909-4AA4-99EA-5D069E9081D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6E7A5F-6120-4C8F-97D9-55267F47C0E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56A354-267A-424A-9D24-E031AD25FF6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34C47A-1AC6-48B6-BF22-C48A0AC13C7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F093D8-31D4-4401-B549-B6DAEA51CB1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82C17D-9365-48A3-B810-86BADEEB973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563152-2F6C-47BA-93C1-D38FEECC272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416F21-28F0-4381-B97C-46220579363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E31FB4-1C22-4C60-B7F4-1AFED4FF5C5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4171C-1E37-4F10-B1AE-F422BEE24A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EF1B-6336-4ECD-900F-EC35A4C3AFE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E0AC4-D8C9-4016-A6BD-3C7319BAAF9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3DE3B-3FE1-449A-84F1-6E82BACA9B4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AEAA0-433C-4CFC-A3C1-8F4A7DEEB79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5FD09-F122-4422-897F-D52A55C72E0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A148D-1A37-49CF-BA2B-18C87310857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151B1-0BEE-4AF0-9A4F-5A1041C0781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4EAEF-A5FA-4768-92F8-863E48535C4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20567-F7CC-4ABD-9F5E-DC944650921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5232D-7A25-487A-9ADB-C7B318E17CC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FD43C-7878-409D-9536-0704BE3AC7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A92DB-DB79-4487-85F6-15B9B6CFF8B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FCE94-4C47-48CF-930D-FD86811036A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CDB162-54A8-4997-83BB-13AC47C6D8D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46386B-52C9-4C86-BE84-BF8A80B5ED9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158FF4-9422-42B6-8BF5-AFD4F0F0D5D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634A2F-9EFA-44B8-ABC9-EACCF68ED16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04760F-B313-441A-A51E-86AB401D22F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7F4D60-93CC-471C-AF61-DCDEA756264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76D556-086F-4EAC-A42E-439C7B346A2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85680D-CA64-4DA2-A435-EB203D9274C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DDE8CE-42A7-4638-A9AB-4F6A342333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E526-F6A7-4976-9F21-9DEDA64D53C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BB62E5-9093-413D-A787-CD7876B3B6A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EA70FA-75F2-41C0-BDDE-EFC9A90E71E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E4EC86-2823-4530-B40C-F19DDB947A9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CBC869-205B-442D-AF47-56FDEADDC8F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562D7D-2795-48E1-8AA6-877D2E66201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DC9D44-7D9D-4B9A-BE58-2E38C257660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EE0B6C-4035-434C-A243-3800D273B32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D07D31-4D63-4F7A-8D8A-240A1C74E6F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8C60C9-B444-48D4-B888-2641C53370B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F45D6E-43B0-4056-914F-EA584261AD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A6A2D-BEB5-4482-AB1C-B08DCCE201E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7BA6F5-1232-4A5D-8D6E-5CD4B373B37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44E1B-CFC2-4BF4-99AC-836E33B623B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504B8-BB13-4ECC-AA13-8AFDFB63197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763668-A6D9-4CC1-89AB-D04C72A4902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E9ED0-F602-4E1D-BBEB-86AF207C218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7D6F7-FBF6-4FBD-82C4-C8C1FF03634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797DA-C3DF-4CCC-99B7-28755584481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93C9D-DA30-4153-8844-C932C6903C7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245B5-1467-47A8-9714-8E35804A291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9CE4D-C385-4E34-9320-EFC084BFA7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8296-8D1F-4ACE-BB70-5E13B6B4427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5921D-501E-4DAE-B78A-3CE406A543B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C0788-CE66-4FAD-8018-B16977AECBB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9BF1F-9673-4F66-8D49-DC18A975C5A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811D8-8762-450E-A2EB-BA19CE84E6E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22E05-C4D2-414D-AD22-D642DD5F110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35EE1-80FD-432F-9C55-135032DFFB5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EFFD2-1DAF-4224-8848-94FC238BC1F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CAC8CF-2A5D-44F2-B695-641550D834A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D5AD16-C802-4442-BDB4-D63005A0840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6225AD-CA0A-4368-9EBC-F61EDF756B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7365A-60F7-4997-BBBF-6FE80312F75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19286C-B838-49C8-BAB7-6A679C898C6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EAEBB0-B6E7-42F7-8B4A-B395DD608D3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119257-B15A-4862-B361-BA8E9CBB2C1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4DB3C6-4E45-4D94-8138-539EB7B5FC3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267179-9641-453F-A6F5-F54C57C8958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9A6C5A-6942-4548-9BA0-B325E163E6C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16D4B2-8061-4C7B-8725-3C6DD4D4716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78D60A-1888-453C-80C2-45FA119D767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A46A2F-3322-4B24-9F29-468F49BA511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A06D4A-11A3-44C3-A223-AB4A559829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B411-68A6-4684-AD8F-FB9DC769E32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51BBE5-82B7-4028-B8F1-D0B05CBDC0E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5BB814-4C75-4552-92AF-E1C9E273386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A6D764-6177-4CF2-9EA4-88246969049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9D59F0-D979-4CBC-A8CE-566008AA215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C06940-CBC2-42CE-A766-091503D569C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A3C81F-5253-4E90-9B57-50171CA2607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415EA1-B561-475C-9139-AD4F91FBA86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38C14A-CB3F-4D7B-A5EE-53D8170FFB4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2F6633-6220-4F56-BFEE-26017032554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79AD79-E7F3-4D99-BCA5-6AAF07B2EA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791E-B376-44C9-8D7A-F9581857AB1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0EF945-A8DF-4F75-8D93-CFD7B0C1E57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27918-A71A-4469-8A69-FD25F8D0154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851B5-D7DC-4B7B-B7B7-AB6C92080D0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124FB-D433-4DC1-B87F-100BEAA67B7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8B69F-547D-4396-830E-79C8A757ED5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4A7AF-D7CD-4F79-B9FE-A2C7C918FD2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42443-C6B2-4ED7-AC06-4219CD12799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35197-9F79-4319-8503-3A7DA1FB5E9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4933B-176E-48E0-9CFF-DA9A28E2259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1794D-8035-4984-AA96-21880D2459F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0BC96-3B32-4203-9240-1E444F89A49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BFA04-7595-4DF6-8200-93DC222E723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16460-EB28-49F5-8522-CDD6DC7C25A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599D13-7DB4-468E-9B3E-64ED8D6CBB8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C3C345-3B09-4FB3-8046-E7907803D6A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8BAC19-1ACE-4854-AEAE-AB3A8D09691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A4209C-6E2B-4938-A47E-121351A59A8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341903-A66D-4A4F-88EA-2370D9B1DEA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9EC10B-B593-4D9D-886E-FF3C71357D2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5826E0-87BE-4FE2-AB52-9E8AEF6F96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C70C0D-E6CA-4ED4-8E63-7B5BF2C2F1F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C32333-B3B3-4888-9C43-4C3FE125B1B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531960-D12C-46F9-B76D-D5A4E85E6E5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78D958-218F-4929-9A36-3560F1035F4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A749C4-5427-4B4C-B94D-F4BF41B69EA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ABB228-0576-44EA-8490-B75DEC90E39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A3C867-3C08-4F8E-B4F4-564A5926750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30FD05-4353-4397-BF76-09BF24001DA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412A61-EF3C-4864-A336-FBFC7515D37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20D81E-BC64-4526-8279-EA05937592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B66BAB-F7E8-48EB-80A3-4E46230EE33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BB9B45-17CC-496E-BAB3-BC19B4EC3F1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E66BC6-E18A-4D99-B41A-246CB81F9FA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CC6CB5-4542-4032-A8CD-4EE92456D9B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8B5DFE-70F4-4509-ABEE-5C37FCE35E5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C12DF8-A327-46D7-8190-C18B8D5E508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0709DC-D36B-4721-B3BA-73B8BACE7CE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F2821-A6D1-4DCB-B911-8F0CA6E5AED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87C23-D344-4889-B8D3-0DCE68413CF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5F82D-E896-474B-8661-54EBD4FC01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C27C5-6E58-4266-8F93-9682F309C60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2DA2F-CDD4-4AE9-9247-51F6C2F2F36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EDD76-1235-451D-928E-35C3CF21158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2F850-10F4-4F4F-AB85-7FC1B2F2878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A68A9-3500-451E-9530-EA2EC94BC3F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55198-2666-4D6C-AF4C-52E2BC108CB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F375A-F10F-4860-AED3-80ABA6011E0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CF134-5098-407E-BA72-47B04BCAF09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88058-1504-42B6-B723-BCD129BCF50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DEDEC9-EA01-4654-80D6-1B50FA03E1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DF97B0-B18D-4127-97A9-F706EDC4340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E22F3A-7B57-4254-B697-85B5A0D9890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BEF0BF-D600-4CDC-B84A-DC25D505300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F907E3-BAAA-4818-A33C-682ECADBBAE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6E46A3-7793-4E8F-9867-E085C8CF44A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AC2644-EF88-4A0B-AFB8-E699E71C186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590F8D-30AB-4C54-B9BF-304F1FC9FCE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D4E3CF-8491-4638-AA68-3AEF768F3BB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A5A637-FCFF-4E14-8E48-D4A59FE479A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A87DE4-9B92-4DE9-9723-6BD1B27995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54FBC0-B295-445E-95D4-67C169C8546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4ABBCF-5E18-444E-BA64-127E4BDC54C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5535C9-FF48-4FD1-B04B-5E1C3C4CA86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F98D35-AFBC-4E02-B826-FBFB7B164CD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6FDF1C-60C3-49AC-83F0-8599C2CC6FE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1260A5-B217-49F0-88CE-FF132B7202C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0D1E9A-4939-403C-9952-CEDA7480E68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8D631D-0162-4C47-A37A-FD445BB317E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2EC72F-A204-49C6-B559-51D3BC466B4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9A8B49-4ECB-4392-AB11-D4EDC84398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E32E6D-B801-4BB0-A990-92D0B6DA443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A51AE6-1C0A-47E6-90C7-A9A3528EB92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EECBBB-9172-4941-8E5E-536F10AF7E90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84719-3C5D-4E03-B27B-90521B5921D1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8B3F6-7059-4E54-9FE5-B9799EE14965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DAAF7-42C9-414B-AD7F-9EC870746FAE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A1A6D-01C5-413E-A4A0-1178B5273BC0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BECC8-694A-4EFF-9E78-0E2523C3754C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CBBCF-5BFB-425C-B782-7052F6CE2B79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B36D1-47E2-4897-9EB7-850123F83B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978DE-004C-47D7-A4F0-2CAB12ABB40E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BDE2E-7835-493D-9D37-6598F3A4CDE1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8DB8F-C4AD-4110-91CF-CA6DE79061F5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9C71A-AC01-410D-871D-B84923C12C56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64E4C-03C8-4B2E-B727-AC235DD4C2E3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2FAC3-F48F-4171-A17E-3F9BA8805E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1FCC0-1D97-49CF-ADC2-06A644D5A57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158C2-36FD-49FA-83B1-04A6FB921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0F252-F3D8-4D59-B5EE-85F98651148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BB87B-5843-42C3-8EA3-ACB9FB459FF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EC3AC-C6A7-4D87-94BB-3028E4E566C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F6AE3-5EE5-43C1-99EE-DB4D2A5E974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12311-326B-434E-B9BB-5E453B4F34A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E4E2D-982F-4FC4-847E-2127A902EB5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9B565-60A7-4249-AA91-C694730ED91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B9D1D-7042-4793-AA17-3A156861EAF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29BD6-B716-4CFD-8FD5-DF63B2CFF84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55E-9025-47D0-ACC9-74DFD8632F9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85CA-9371-42B2-8B79-AEAE30B1A81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1C8-ABF2-4F77-9E4C-DBFBCA12D16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53A-89BB-4976-AF10-48EF9B9FE29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02B-8AE7-4E81-91B0-0A069999CBA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5D9C-9FF7-4369-9407-CAFF0A2809F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955E-76D3-476C-BC93-82CC61DBB6C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0E8E-F53F-45BE-8AEA-C80E2FED896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F6C9-0F84-4F9E-8D7B-11478DF99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C2B7-9B06-487E-8860-284B47C0A2F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FD3D-D51B-4311-9530-03BB118CA9C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7C04-9C18-46C0-A7A8-52024B92197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9E2CF-59C9-4D7E-9B08-884D29C9F58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739C8-64EA-4D73-BA4D-B2F03868F5C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00C23-E275-4DBC-992D-707A6C8ECE6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A37FA-0847-4B93-87C9-3B63BB53640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3D09B-6D1D-42DE-8C98-9A61DCBA93A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A92BD-29B9-4274-82EB-4C1B5178F5D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3C540-8E50-4904-BF99-36D108D42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3B49B-2765-4F36-A41D-8F6B1DC1750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58431-E470-4166-8B60-D7116405408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0E7B9-F89C-4D4B-8C16-E7FFFD4E890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5ECCB-BA49-48B6-95AD-676A51FE59E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A28A9-7FA3-485A-8039-D96AB6C7159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1C791-5CA1-4982-9486-9A0BC75EC0B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ED541-0237-4D6E-8D78-737CA5B5CFA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A1D01-2E58-424B-8B15-AC60A322E1F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D3BC0-8C84-4CB3-867B-A07BC0D1975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4A3F4-B6D7-4010-8C9C-C1024B3D1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37162-E31E-4ADD-B7E8-771CCAF36DD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4C868-1169-4C17-9590-B84E0E94862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A899B-04D4-4A75-A3C5-09C472675A9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083AB-9F2F-4ABD-B2EC-71F61A7AF0B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AAF0A-7E63-427B-B012-974EA10B11B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3AE23-D249-4361-937D-F8CC204F525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CD890-3FD3-470A-87AA-A722EB05BFD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AE39-95C8-4B16-8BD1-802B4155EAA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976F-55F7-415C-8239-A28ACDFD555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3978-4FBD-4567-9054-1B425A1A5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6E49-CC9B-49F2-9D8C-1F697FEEF53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EC69-E0D7-44C3-A3A5-9FB39A2D603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0ED2-BB80-4759-9D96-F4444E35D66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06B9-A4A5-49EA-9FDA-3AF6B8325C3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82C2-4334-485F-9FFF-6F185B2CA71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5A31-D52A-405C-A17A-383602F2D73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0E80-C201-49A2-8357-2B6AA040FEB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38C2-49C0-44F2-875D-ADB6A5C4891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9BBC-E913-4A45-B853-4C3D2FEE9B9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EE02-C612-4762-AE49-616DA54D94A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5504-E3DE-4265-9E7E-6E3E87FB9E8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876E-EBBB-4FD4-B2A3-A65218BF1F5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761E-ACC7-4D4B-839F-9C900309834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4E9C-B691-48C7-B8F9-D5F23EA4B36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B287-C74B-4A4F-8F99-690F3724A14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E7DC-8620-40D5-AFE5-AB03923874B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9160-D0A8-44CE-9C09-4F78D90B06E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EB3C-E3E5-41BA-A656-FDCA4C7F6BC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7E4F-E89C-402A-BC43-BFC2DB6853F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498C-FC74-4AAD-82DE-0506BBCE656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5166-6873-4D4C-9A33-0844262466C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7509-692C-4155-A7D6-9F3A76A428C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623A-C946-4D08-AFDB-973377E3D09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601A-25A1-4512-B082-A867B0AD16A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Santa Ma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C, Diciembre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684360" y="795240"/>
            <a:ext cx="74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250920" y="5307120"/>
            <a:ext cx="8353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: Agricultura, ganadería, caza, silvicultura y pesca; explotación de minas y canteras,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 “No informa” no se incluye en la gráfica. Por esta razón la suma de las participaciones puede diferir de 100%.   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6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0" name="1 Imagen" descr=""/>
          <p:cNvPicPr/>
          <p:nvPr/>
        </p:nvPicPr>
        <p:blipFill>
          <a:blip r:embed="rId1"/>
          <a:stretch/>
        </p:blipFill>
        <p:spPr>
          <a:xfrm>
            <a:off x="1046160" y="1646280"/>
            <a:ext cx="72658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 Box 3"/>
          <p:cNvSpPr/>
          <p:nvPr/>
        </p:nvSpPr>
        <p:spPr>
          <a:xfrm>
            <a:off x="1366920" y="6922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395280" y="549288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6 CuadroTexto"/>
          <p:cNvSpPr/>
          <p:nvPr/>
        </p:nvSpPr>
        <p:spPr>
          <a:xfrm>
            <a:off x="1211040" y="5084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1 Imagen" descr=""/>
          <p:cNvPicPr/>
          <p:nvPr/>
        </p:nvPicPr>
        <p:blipFill>
          <a:blip r:embed="rId1"/>
          <a:stretch/>
        </p:blipFill>
        <p:spPr>
          <a:xfrm>
            <a:off x="1046160" y="1628640"/>
            <a:ext cx="70502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8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826920" y="8571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8 CuadroTexto"/>
          <p:cNvSpPr/>
          <p:nvPr/>
        </p:nvSpPr>
        <p:spPr>
          <a:xfrm>
            <a:off x="1150560" y="5315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4" name="1 Imagen" descr=""/>
          <p:cNvPicPr/>
          <p:nvPr/>
        </p:nvPicPr>
        <p:blipFill>
          <a:blip r:embed="rId1"/>
          <a:stretch/>
        </p:blipFill>
        <p:spPr>
          <a:xfrm>
            <a:off x="976320" y="1778040"/>
            <a:ext cx="7424640" cy="3219480"/>
          </a:xfrm>
          <a:prstGeom prst="rect">
            <a:avLst/>
          </a:prstGeom>
          <a:ln w="0">
            <a:noFill/>
          </a:ln>
        </p:spPr>
      </p:pic>
      <p:sp>
        <p:nvSpPr>
          <p:cNvPr id="1305" name="Text Box 6"/>
          <p:cNvSpPr/>
          <p:nvPr/>
        </p:nvSpPr>
        <p:spPr>
          <a:xfrm>
            <a:off x="250920" y="5559480"/>
            <a:ext cx="84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°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3"/>
          <p:cNvSpPr/>
          <p:nvPr/>
        </p:nvSpPr>
        <p:spPr>
          <a:xfrm>
            <a:off x="1403280" y="79524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8 CuadroTexto"/>
          <p:cNvSpPr/>
          <p:nvPr/>
        </p:nvSpPr>
        <p:spPr>
          <a:xfrm>
            <a:off x="2617560" y="5200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0" name="1 Imagen" descr=""/>
          <p:cNvPicPr/>
          <p:nvPr/>
        </p:nvPicPr>
        <p:blipFill>
          <a:blip r:embed="rId1"/>
          <a:stretch/>
        </p:blipFill>
        <p:spPr>
          <a:xfrm>
            <a:off x="905040" y="1682640"/>
            <a:ext cx="6757920" cy="3324240"/>
          </a:xfrm>
          <a:prstGeom prst="rect">
            <a:avLst/>
          </a:prstGeom>
          <a:ln w="0">
            <a:noFill/>
          </a:ln>
        </p:spPr>
      </p:pic>
      <p:sp>
        <p:nvSpPr>
          <p:cNvPr id="1311" name="Text Box 6"/>
          <p:cNvSpPr/>
          <p:nvPr/>
        </p:nvSpPr>
        <p:spPr>
          <a:xfrm>
            <a:off x="250920" y="5559480"/>
            <a:ext cx="84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89080" y="71424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213480" y="5516640"/>
            <a:ext cx="809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“otros” incluye a incapacitado permanente para trabajar, rentista, pensionado, jubilado, personas que no 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6 CuadroTexto"/>
          <p:cNvSpPr/>
          <p:nvPr/>
        </p:nvSpPr>
        <p:spPr>
          <a:xfrm>
            <a:off x="162540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835200" y="1460520"/>
            <a:ext cx="73292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2165040" y="56894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1332000" y="90792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roporción del empleo informal en la población ocup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 Agosto - octubre 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576108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Santa Mar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2 Imagen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58000" cy="1805040"/>
          </a:xfrm>
          <a:prstGeom prst="rect">
            <a:avLst/>
          </a:prstGeom>
          <a:ln w="0">
            <a:noFill/>
          </a:ln>
        </p:spPr>
      </p:pic>
      <p:pic>
        <p:nvPicPr>
          <p:cNvPr id="1327" name="1 Imagen" descr=""/>
          <p:cNvPicPr/>
          <p:nvPr/>
        </p:nvPicPr>
        <p:blipFill>
          <a:blip r:embed="rId2"/>
          <a:stretch/>
        </p:blipFill>
        <p:spPr>
          <a:xfrm>
            <a:off x="1317600" y="3860640"/>
            <a:ext cx="64548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1308240" y="338040"/>
            <a:ext cx="68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Magdal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2007 -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310400" y="5732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1 Imagen" descr=""/>
          <p:cNvPicPr/>
          <p:nvPr/>
        </p:nvPicPr>
        <p:blipFill>
          <a:blip r:embed="rId1"/>
          <a:stretch/>
        </p:blipFill>
        <p:spPr>
          <a:xfrm>
            <a:off x="1135080" y="1827360"/>
            <a:ext cx="7020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784080" y="1989000"/>
            <a:ext cx="75758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-12600" y="264312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Arial"/>
              </a:rPr>
              <a:t>Agosto - octubre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6 Rectángulo"/>
          <p:cNvSpPr/>
          <p:nvPr/>
        </p:nvSpPr>
        <p:spPr>
          <a:xfrm>
            <a:off x="2771640" y="4149720"/>
            <a:ext cx="6048360" cy="2080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8" name="1 Imagen" descr=""/>
          <p:cNvPicPr/>
          <p:nvPr/>
        </p:nvPicPr>
        <p:blipFill>
          <a:blip r:embed="rId1"/>
          <a:stretch/>
        </p:blipFill>
        <p:spPr>
          <a:xfrm>
            <a:off x="2916360" y="227160"/>
            <a:ext cx="597060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187280" y="736560"/>
            <a:ext cx="67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gosto - octubre (2009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2" name="1 Imagen" descr=""/>
          <p:cNvPicPr/>
          <p:nvPr/>
        </p:nvPicPr>
        <p:blipFill>
          <a:blip r:embed="rId1"/>
          <a:stretch/>
        </p:blipFill>
        <p:spPr>
          <a:xfrm>
            <a:off x="1476360" y="1854360"/>
            <a:ext cx="6191280" cy="3554280"/>
          </a:xfrm>
          <a:prstGeom prst="rect">
            <a:avLst/>
          </a:prstGeom>
          <a:ln w="0">
            <a:noFill/>
          </a:ln>
        </p:spPr>
      </p:pic>
      <p:sp>
        <p:nvSpPr>
          <p:cNvPr id="1273" name="5 CuadroTexto"/>
          <p:cNvSpPr/>
          <p:nvPr/>
        </p:nvSpPr>
        <p:spPr>
          <a:xfrm>
            <a:off x="2107800" y="54752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s móviles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1553760" y="5732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514520" y="1662120"/>
            <a:ext cx="61149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4"/>
          <p:cNvSpPr/>
          <p:nvPr/>
        </p:nvSpPr>
        <p:spPr>
          <a:xfrm>
            <a:off x="2050920" y="549360"/>
            <a:ext cx="48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gosto - octubre 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469800" y="2276640"/>
            <a:ext cx="82058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Oscar Eduardo Reyes Nieto</cp:lastModifiedBy>
  <cp:lastPrinted>2015-09-24T21:56:50Z</cp:lastPrinted>
  <dcterms:modified xsi:type="dcterms:W3CDTF">2015-12-11T13:07:13Z</dcterms:modified>
  <cp:revision>193</cp:revision>
  <dc:subject/>
  <dc:title>Diapositiva 1</dc:title>
</cp:coreProperties>
</file>